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CC46-504B-474E-B739-07ADFFE8A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91B7-7063-4394-83C1-C9C180BCD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5D02-14A0-4CD3-9E7E-A5B1DA605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30D9-B133-4453-BD3D-A69DEA894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912A-E328-4917-A290-95CD53B50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0E88-6C66-492F-9F7C-842D14551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8B8C-A0E7-4998-9BD4-7B24A917A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3962-2755-45E8-981F-A0C80CE91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E0F5-4515-4835-943F-D8954650C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BA53-8A36-4CC2-9F0E-86D16CABA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793A-C9AA-44F9-8B3B-F8DE169A9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DB46-0A6D-44B8-91C2-B42ED492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DE848-0E55-410E-B9FF-9ED282EB4D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britishmuseum.org/" TargetMode="External"/><Relationship Id="rId3" Type="http://schemas.openxmlformats.org/officeDocument/2006/relationships/hyperlink" Target="http://www.britishmuseum.org/explore/introduction.aspx" TargetMode="External"/><Relationship Id="rId4" Type="http://schemas.openxmlformats.org/officeDocument/2006/relationships/hyperlink" Target="http://www.ancientegypt.co.uk/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-7000" r="0" b="0"/>
          <a:stretch/>
        </p:blipFill>
        <p:spPr>
          <a:xfrm>
            <a:off x="684360" y="404640"/>
            <a:ext cx="2374920" cy="1314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508720" y="549360"/>
            <a:ext cx="1566720" cy="51847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258920" y="4149720"/>
            <a:ext cx="3311640" cy="15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cient Egy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ory of mumm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cient Egyptian mummification developed over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3057480" cy="1527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564000" y="1844640"/>
            <a:ext cx="482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rst burials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t desert san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ed t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tural mummific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whole bo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948360" y="3573360"/>
            <a:ext cx="1751040" cy="2232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059280" y="3716280"/>
            <a:ext cx="367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er, placing the body in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ff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ant that only the skeleton survi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509760" y="3357720"/>
            <a:ext cx="990360" cy="3276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547640" y="5013360"/>
            <a:ext cx="482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the Egyptians learned how t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tificially mummif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body before putting it in the coff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ly mummification was a natural proc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907920"/>
            <a:ext cx="4105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eser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a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dr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47640" y="6021360"/>
            <a:ext cx="6553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hydration (drying out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serv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whole bo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93800" y="1976400"/>
            <a:ext cx="7556400" cy="3772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572000" y="836640"/>
            <a:ext cx="410364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ies placed in the hot s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hydrat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cause the hot sand absorbed the water in the bo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403280" y="2538360"/>
            <a:ext cx="5435640" cy="2362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 flipH="1">
            <a:off x="1979640" y="1341360"/>
            <a:ext cx="7128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3924000" y="1268280"/>
            <a:ext cx="647640" cy="151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003640" y="443664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909720"/>
            <a:ext cx="9144000" cy="45673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476360" y="26028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sult is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tural sand-dried mumm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9640" y="6093000"/>
            <a:ext cx="1873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rved sk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48360" y="6093000"/>
            <a:ext cx="16560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ve go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6093000"/>
            <a:ext cx="1871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rial in s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1908000" y="2708280"/>
            <a:ext cx="2016360" cy="338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4211280" y="5157720"/>
            <a:ext cx="576360" cy="9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 flipV="1">
            <a:off x="7308720" y="3933720"/>
            <a:ext cx="503280" cy="215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bodies buried in the desert sands were at ris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wild anim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556000" y="1700280"/>
            <a:ext cx="3743280" cy="23461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843280" y="429264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nch munch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587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ow could the ancient Egyptians protect the bodies of the dea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0920" y="501336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nimals attacked the bodies they would not be preserved and would not reach the afterlife inta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47640" y="259920"/>
            <a:ext cx="6562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the Egyptians started to place the bod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coff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932360" y="1268280"/>
            <a:ext cx="3571920" cy="45514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50920" y="1197000"/>
            <a:ext cx="2017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ill this wor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932360" y="1268280"/>
            <a:ext cx="3560760" cy="45370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79280" y="1844640"/>
            <a:ext cx="439272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kelet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not a mummy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oft tissue ha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tt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way.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hole body needed to be preserved  for the afterlife.                                              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4005360"/>
            <a:ext cx="42480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hy was the body not preserv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4581360"/>
            <a:ext cx="36003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hot dry sand could not reach the body to dry it ou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so the soft tissue rotted aw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ificial mumm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1280" y="1197000"/>
            <a:ext cx="792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ncient Egyptians realised they needed to mummify the dead bodies artificiall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y placed them in the coff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2421000"/>
            <a:ext cx="5040000" cy="40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artificially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hydrat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he body and the internal org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wrapped the body in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inen bandage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placed it in a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ff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ut the organs in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nopic jar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put the coffin, canopic jars and grave goods into th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om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process was very expensive so over 95% of the population were buried in the san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ended up like the first natural sand-dried mumm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724360" y="2492280"/>
            <a:ext cx="224820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BM_LOGO_BLACK_LEARNING" descr=""/>
          <p:cNvPicPr/>
          <p:nvPr/>
        </p:nvPicPr>
        <p:blipFill>
          <a:blip r:embed="rId1"/>
          <a:stretch/>
        </p:blipFill>
        <p:spPr>
          <a:xfrm>
            <a:off x="611280" y="4149720"/>
            <a:ext cx="4038480" cy="2259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042920" y="691920"/>
            <a:ext cx="749448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d out more about ancient Egyptian mumm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isit the main Museum website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britishmuseum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 Explore to look at some of our mumm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britishmuseum.org/explore/introduction.asp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arn more about mumm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ancientegypt.co.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6T15:44:12Z</dcterms:created>
  <dc:creator>kkelland</dc:creator>
  <dc:description/>
  <dc:language>en-US</dc:language>
  <cp:lastModifiedBy>rwoff</cp:lastModifiedBy>
  <dcterms:modified xsi:type="dcterms:W3CDTF">2008-04-07T08:47:53Z</dcterms:modified>
  <cp:revision>67</cp:revision>
  <dc:subject/>
  <dc:title>The British  Museum                                 Ancient Egypt: Mummies   </dc:title>
</cp:coreProperties>
</file>